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DD9-B36E-470C-A849-8C4A76EB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01E-C127-4430-BD54-11BF79F8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C5D-489A-4195-9802-EB931E23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957-CFE4-4694-94EA-2789887B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1680-6149-4093-8130-006DD2A0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3B5D-401A-4326-A353-5F0EA384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2362-B8F2-48F4-89E6-FD562537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AFF7-FF83-4C4F-BEFF-CCE0A629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D52D-90EE-465D-94D1-994E574B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DDAC-9F21-4FB8-91C8-357F6739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F707-4698-432C-B89D-E083AC09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087-168E-473D-A632-A5BB580D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5C68-958D-4D6A-B2D7-B2E1149A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B304-849A-4A3C-AE4E-7933525A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8F3B-7072-48D5-BE28-4227223F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E81B-E1F0-4C8E-99D4-3668FE20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1382-B706-421E-8585-B77DE68D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6D930-511D-4417-828C-30181ED5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9A255-AB63-4D5D-A33B-07396C2C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4B3E4-9C3F-4735-9B3F-16E3C5FA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5F37B-D4AF-4A44-8E9F-04AC8D79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8FF8-A047-46C2-9345-9B3D591B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800-FEEE-4DE3-9A41-408C7216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0EB05-CF03-4F0F-B6A3-54091E2E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43B49-A960-4666-8A79-EAA3ABDF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3ADA7-3453-4009-B8E4-2CE3A97E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8B10-194B-4183-8C16-0B608372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1750-17F3-44D9-8B8E-719B19AE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8D038-1640-40D9-8506-7F2AFFB2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1151-B493-4A68-B723-692FC24E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784-4DC1-4FFE-AB0A-3AA8EC26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348-3BD3-48C6-BC1C-65496EEC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C80-3A1F-4671-87B1-AFF84DE7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00F-F3CB-4D22-9515-8BBB9101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85B-397A-439C-BC40-336F3876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629-983C-4830-93D0-58FFFEA7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05D4-E29C-4578-8018-EC5148DCAE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D042-8394-4200-9B18-78D4FFBC3B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D645-02A6-47BB-9331-937930B957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Кто такой потреб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ОУ «СОШ №5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Новокузне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ева Марина Игор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149481"/>
          <p:cNvPicPr/>
          <p:nvPr/>
        </p:nvPicPr>
        <p:blipFill>
          <a:blip r:embed="rId1"/>
          <a:stretch/>
        </p:blipFill>
        <p:spPr>
          <a:xfrm>
            <a:off x="6443640" y="260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989440"/>
                <a:gridCol w="2985840"/>
                <a:gridCol w="2989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Физиологические потребности (еда, вода, одежда, жилье, воспроизведение рода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Социальные потребности (потребность в любви, дружбе, общении с людьми, имеющими те же интересы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59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3132000" y="1773360"/>
            <a:ext cx="30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купка в магазинах пищевых продуктов, вещей, товаров для дома. Приобретение кварти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6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щевые продукты, предметы быта, одежда, квартира, мебель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90"/>
          <p:cNvSpPr/>
          <p:nvPr/>
        </p:nvSpPr>
        <p:spPr>
          <a:xfrm>
            <a:off x="3203640" y="4005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емьи. Участие в культурной и общественной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91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обственной семьи и укрепление родительской. Формирование круга друзей и близк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79280" y="836640"/>
          <a:ext cx="8785440" cy="5832360"/>
        </p:xfrm>
        <a:graphic>
          <a:graphicData uri="http://schemas.openxmlformats.org/drawingml/2006/table">
            <a:tbl>
              <a:tblPr/>
              <a:tblGrid>
                <a:gridCol w="2805120"/>
                <a:gridCol w="3071880"/>
                <a:gridCol w="2908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отребность в безопасности (защита от преступников и внешних врагов, защита от нищеты и помощь при болезнях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7"/>
          <p:cNvSpPr/>
          <p:nvPr/>
        </p:nvSpPr>
        <p:spPr>
          <a:xfrm>
            <a:off x="2987640" y="1773360"/>
            <a:ext cx="3168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Установка различных видов защиты своего имущества, информации и пра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посредственное участие в защите себя, родных и близких, об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лучение рабочего мес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940360" y="1773360"/>
            <a:ext cx="320364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Металлические двери, система сигнализации, страхование иму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здание внутренних и внешних вооруженных си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казание мед. помощи, социальной защит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808360"/>
                <a:gridCol w="3166920"/>
                <a:gridCol w="2989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Потребность в уважении (со стороны других людей и самоуважения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отребность в самореализации (в развитии своих возможностей и способностей и их активном использовании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21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59280" y="1844640"/>
            <a:ext cx="30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ий уровень реализации себя в работе, семье, обще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чественное выполнение всех жизненных прав, обязанностей и возмож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2987640" y="407664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образования (в том числе дополнительного). Добиваться решения поставленных жизненных зада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в школе, колледже, ВУЗе. Устроиться на работу, соответствующую твоим склонностям и интерес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«Волшебная палочка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07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равил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каждого из вас есть волшебная палочка, которая может исполнить одно заветное жел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ажите чего бы вы хотели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о употребив сло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ители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Группа 9"/>
          <p:cNvGrpSpPr/>
          <p:nvPr/>
        </p:nvGrpSpPr>
        <p:grpSpPr>
          <a:xfrm>
            <a:off x="7862760" y="160560"/>
            <a:ext cx="1149480" cy="2620800"/>
            <a:chOff x="7862760" y="160560"/>
            <a:chExt cx="1149480" cy="2620800"/>
          </a:xfrm>
        </p:grpSpPr>
        <p:grpSp>
          <p:nvGrpSpPr>
            <p:cNvPr id="202" name="Group 9"/>
            <p:cNvGrpSpPr/>
            <p:nvPr/>
          </p:nvGrpSpPr>
          <p:grpSpPr>
            <a:xfrm>
              <a:off x="7862760" y="160560"/>
              <a:ext cx="1149480" cy="2620800"/>
              <a:chOff x="7862760" y="160560"/>
              <a:chExt cx="1149480" cy="2620800"/>
            </a:xfrm>
          </p:grpSpPr>
          <p:sp>
            <p:nvSpPr>
              <p:cNvPr id="203" name="AutoShape 7"/>
              <p:cNvSpPr/>
              <p:nvPr/>
            </p:nvSpPr>
            <p:spPr>
              <a:xfrm rot="811800">
                <a:off x="7956000" y="260280"/>
                <a:ext cx="962280" cy="914400"/>
              </a:xfrm>
              <a:prstGeom prst="pie">
                <a:avLst/>
              </a:prstGeom>
              <a:gradFill rotWithShape="0">
                <a:gsLst>
                  <a:gs pos="0">
                    <a:srgbClr val="d0dae2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13500000" blurRad="0" rotWithShape="0">
                  <a:srgbClr val="e7edf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Line 8"/>
              <p:cNvSpPr/>
              <p:nvPr/>
            </p:nvSpPr>
            <p:spPr>
              <a:xfrm flipH="1">
                <a:off x="8101080" y="981000"/>
                <a:ext cx="288720" cy="1800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5" name="Прямая соединительная линия 7"/>
            <p:cNvSpPr/>
            <p:nvPr/>
          </p:nvSpPr>
          <p:spPr>
            <a:xfrm flipH="1">
              <a:off x="7929720" y="928440"/>
              <a:ext cx="428400" cy="1428840"/>
            </a:xfrm>
            <a:prstGeom prst="line">
              <a:avLst/>
            </a:prstGeom>
            <a:ln w="9360">
              <a:solidFill>
                <a:srgbClr val="83b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j0205582"/>
          <p:cNvPicPr/>
          <p:nvPr/>
        </p:nvPicPr>
        <p:blipFill>
          <a:blip r:embed="rId1"/>
          <a:stretch/>
        </p:blipFill>
        <p:spPr>
          <a:xfrm>
            <a:off x="0" y="3573360"/>
            <a:ext cx="1944720" cy="178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86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ческие потребности безграничны, а ресурсов для их удовлетворения недостаточ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должна к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учше обеспеч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дей материальны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агами из ограниченн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ичества ресурсов, которым о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олагает. А каждый потребитель должен ст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м потребител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j0199283"/>
          <p:cNvPicPr/>
          <p:nvPr/>
        </p:nvPicPr>
        <p:blipFill>
          <a:blip r:embed="rId2"/>
          <a:stretch/>
        </p:blipFill>
        <p:spPr>
          <a:xfrm>
            <a:off x="7093080" y="234936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j0234266"/>
          <p:cNvPicPr/>
          <p:nvPr/>
        </p:nvPicPr>
        <p:blipFill>
          <a:blip r:embed="rId3"/>
          <a:stretch/>
        </p:blipFill>
        <p:spPr>
          <a:xfrm>
            <a:off x="0" y="1773360"/>
            <a:ext cx="2089080" cy="2036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j0292152"/>
          <p:cNvPicPr/>
          <p:nvPr/>
        </p:nvPicPr>
        <p:blipFill>
          <a:blip r:embed="rId4"/>
          <a:stretch/>
        </p:blipFill>
        <p:spPr>
          <a:xfrm>
            <a:off x="7236000" y="472428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j0251871"/>
          <p:cNvPicPr/>
          <p:nvPr/>
        </p:nvPicPr>
        <p:blipFill>
          <a:blip r:embed="rId5"/>
          <a:stretch/>
        </p:blipFill>
        <p:spPr>
          <a:xfrm>
            <a:off x="6877080" y="83664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атит деньги только на то, в чем он действительно нуждается, что приносит ем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ьшую польз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 – очень разборчивый челов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рациональный потребитель"/>
          <p:cNvPicPr/>
          <p:nvPr/>
        </p:nvPicPr>
        <p:blipFill>
          <a:blip r:embed="rId1"/>
          <a:stretch/>
        </p:blipFill>
        <p:spPr>
          <a:xfrm>
            <a:off x="4643280" y="1989000"/>
            <a:ext cx="4294440" cy="3175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j0300840"/>
          <p:cNvPicPr/>
          <p:nvPr/>
        </p:nvPicPr>
        <p:blipFill>
          <a:blip r:embed="rId2"/>
          <a:stretch/>
        </p:blipFill>
        <p:spPr>
          <a:xfrm>
            <a:off x="971640" y="2781360"/>
            <a:ext cx="2592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помни, какие покупки ты и твоя семья сделала за последнюю неделю. Выпиши эти покупки с их стоимостью. Распредели покупки по следующим групп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8360" y="2781360"/>
          <a:ext cx="8229600" cy="2590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а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стиж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38"/>
          <p:cNvSpPr/>
          <p:nvPr/>
        </p:nvSpPr>
        <p:spPr>
          <a:xfrm>
            <a:off x="395280" y="551664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делай вывод, какой ты покупатель рациональный или нет. Объясни почем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олни таблицу «Важность отдельных товаров». В графе «Товары» перечисли товары, которые удовлетворяют данную потребность; в графе «Необходимость» условными обозначениями «+», «-» или «+/-» отметь необходимость данного товара для удовлетворения этой потребности: «+» - товар нельзя заменить никаким другим товаром (например: хлеб); «-» - товар имеет заменитель (например, ветчина – мясо); «+/-» - товар заменить нечем только в определенных случаях (например, лим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5280" y="4292640"/>
          <a:ext cx="8424720" cy="2378160"/>
        </p:xfrm>
        <a:graphic>
          <a:graphicData uri="http://schemas.openxmlformats.org/drawingml/2006/table">
            <a:tbl>
              <a:tblPr/>
              <a:tblGrid>
                <a:gridCol w="2809800"/>
                <a:gridCol w="2805120"/>
                <a:gridCol w="28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ре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ув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безопас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амовыр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 1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едите примеры некоторых своих потребностей. Какие блага (товары и услуги) нужны, чтобы их удовлетвор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282400" y="155628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125360"/>
          <a:ext cx="8229600" cy="4483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AutoShape 73">
            <a:hlinkClick r:id="rId1" action="ppaction://hlinksldjump"/>
          </p:cNvPr>
          <p:cNvSpPr/>
          <p:nvPr/>
        </p:nvSpPr>
        <p:spPr>
          <a:xfrm>
            <a:off x="6156360" y="5950080"/>
            <a:ext cx="2808360" cy="620640"/>
          </a:xfrm>
          <a:prstGeom prst="flowChartAlternateProcess">
            <a:avLst/>
          </a:prstGeom>
          <a:gradFill rotWithShape="0">
            <a:gsLst>
              <a:gs pos="0">
                <a:srgbClr val="99ccff"/>
              </a:gs>
              <a:gs pos="100000">
                <a:srgbClr val="d0dae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268280"/>
          <a:ext cx="8229600" cy="448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AutoShape 66"/>
          <p:cNvSpPr/>
          <p:nvPr/>
        </p:nvSpPr>
        <p:spPr>
          <a:xfrm>
            <a:off x="176364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2050920" y="263700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68"/>
          <p:cNvSpPr/>
          <p:nvPr/>
        </p:nvSpPr>
        <p:spPr>
          <a:xfrm>
            <a:off x="205092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69"/>
          <p:cNvSpPr/>
          <p:nvPr/>
        </p:nvSpPr>
        <p:spPr>
          <a:xfrm>
            <a:off x="176364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70"/>
          <p:cNvSpPr/>
          <p:nvPr/>
        </p:nvSpPr>
        <p:spPr>
          <a:xfrm>
            <a:off x="205092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1"/>
          <p:cNvSpPr/>
          <p:nvPr/>
        </p:nvSpPr>
        <p:spPr>
          <a:xfrm>
            <a:off x="205092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72"/>
          <p:cNvSpPr/>
          <p:nvPr/>
        </p:nvSpPr>
        <p:spPr>
          <a:xfrm>
            <a:off x="176364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73"/>
          <p:cNvSpPr/>
          <p:nvPr/>
        </p:nvSpPr>
        <p:spPr>
          <a:xfrm>
            <a:off x="2050920" y="407664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74"/>
          <p:cNvSpPr/>
          <p:nvPr/>
        </p:nvSpPr>
        <p:spPr>
          <a:xfrm>
            <a:off x="2050920" y="450864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75"/>
          <p:cNvSpPr/>
          <p:nvPr/>
        </p:nvSpPr>
        <p:spPr>
          <a:xfrm>
            <a:off x="2050920" y="49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76"/>
          <p:cNvSpPr/>
          <p:nvPr/>
        </p:nvSpPr>
        <p:spPr>
          <a:xfrm>
            <a:off x="2050920" y="5373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j0205462"/>
          <p:cNvPicPr/>
          <p:nvPr/>
        </p:nvPicPr>
        <p:blipFill>
          <a:blip r:embed="rId1"/>
          <a:stretch/>
        </p:blipFill>
        <p:spPr>
          <a:xfrm>
            <a:off x="7378560" y="5100480"/>
            <a:ext cx="1765440" cy="175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183328"/>
          <p:cNvPicPr/>
          <p:nvPr/>
        </p:nvPicPr>
        <p:blipFill>
          <a:blip r:embed="rId2"/>
          <a:stretch/>
        </p:blipFill>
        <p:spPr>
          <a:xfrm>
            <a:off x="7000920" y="1357200"/>
            <a:ext cx="1806480" cy="1814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 1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магазине рядом со школой альбом для рисования стоит 20 рублей, а в магазине через 10 автобусных остановок – 17 рублей. В каком магазине покупка альбома обойдется дешевл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2825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т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льб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рисования в магазине рядом со школ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оит дорож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го с точки зрения экономики выгоднее куп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ак как на приобретение более дешевого альбома прид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атить врем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 дорог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10 остановок)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ньги на дорог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6836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571680" y="164304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единствен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Задача 2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71640" y="2349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14200" y="10000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ком случае цена на глобус увели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71680" y="221472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каждом книж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71680" y="27860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стало модно ставить на письменный 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71680" y="328608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можно заменить картой мира, занимающей     мало ме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1680" y="414324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глобусе поставил свою подпись Президент Российской Федерации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9" descr="глобус"/>
          <p:cNvPicPr/>
          <p:nvPr/>
        </p:nvPicPr>
        <p:blipFill>
          <a:blip r:embed="rId1"/>
          <a:stretch/>
        </p:blipFill>
        <p:spPr>
          <a:xfrm>
            <a:off x="7396200" y="0"/>
            <a:ext cx="1747800" cy="20718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4"/>
          <p:cNvSpPr/>
          <p:nvPr/>
        </p:nvSpPr>
        <p:spPr>
          <a:xfrm>
            <a:off x="214200" y="507204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вод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Ц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 то, что плати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требител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Если его цена не устраивает, он ищет такой же, но более дешевый товар либо другой товар, отвечающий тем же самым требовани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-17784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то такой потребитель и какую роль он играет в экономик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1557360"/>
            <a:ext cx="8715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такой участник экономики, которым может быть отдельный человек, целое предприятие и даже государство, имеющий материальные и духовные потребности и возможности их удовлетворить, т. е. средства для покупки товаров и услуг, и, наконец, желание и умение использовать их п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значе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7" descr="j0149481"/>
          <p:cNvPicPr/>
          <p:nvPr/>
        </p:nvPicPr>
        <p:blipFill>
          <a:blip r:embed="rId1"/>
          <a:stretch/>
        </p:blipFill>
        <p:spPr>
          <a:xfrm>
            <a:off x="6999120" y="486900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j0285360"/>
          <p:cNvPicPr/>
          <p:nvPr/>
        </p:nvPicPr>
        <p:blipFill>
          <a:blip r:embed="rId1"/>
          <a:stretch/>
        </p:blipFill>
        <p:spPr>
          <a:xfrm>
            <a:off x="6886440" y="0"/>
            <a:ext cx="2257560" cy="2781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думай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739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уда заводы и фабр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знают, какую продукцию им над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5280" y="2637000"/>
            <a:ext cx="799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 об этом напоминает потребитель. Он покупает только нужные вещи, и если объем покупок увеличивается, то это является для производителей сигналом к действ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522936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я в первую очередь характеризует наличие потре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помни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«Сказку о рыбаке и рыбке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А.С. Пушки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олотая рыбка исполня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елания жадной старухи, 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том уплыла от нее и старика, поняв, ч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юд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згранич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золотая рыбка сказка"/>
          <p:cNvPicPr/>
          <p:nvPr/>
        </p:nvPicPr>
        <p:blipFill>
          <a:blip r:embed="rId1"/>
          <a:stretch/>
        </p:blipFill>
        <p:spPr>
          <a:xfrm>
            <a:off x="5940360" y="1268280"/>
            <a:ext cx="2952720" cy="214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старуха"/>
          <p:cNvPicPr/>
          <p:nvPr/>
        </p:nvPicPr>
        <p:blipFill>
          <a:blip r:embed="rId2"/>
          <a:stretch/>
        </p:blipFill>
        <p:spPr>
          <a:xfrm>
            <a:off x="324000" y="4365720"/>
            <a:ext cx="3192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авайте вспомним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4360" y="1700280"/>
            <a:ext cx="8135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надобность, нужда в чем-либо, требующая удовлетв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26920" y="4365720"/>
            <a:ext cx="7993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ие, потребность в безопасности, социальные, потребность в уважении, потребность в самореализ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84360" y="105264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значает термин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ность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11280" y="350028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виды потребностей вы знает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08:58Z</dcterms:created>
  <dc:creator>Sviridenkona</dc:creator>
  <dc:description/>
  <dc:language>en-US</dc:language>
  <cp:lastModifiedBy>Sviridenkona</cp:lastModifiedBy>
  <dcterms:modified xsi:type="dcterms:W3CDTF">2010-02-25T02:13:27Z</dcterms:modified>
  <cp:revision>44</cp:revision>
  <dc:subject/>
  <dc:title>Школа как потребитель</dc:title>
</cp:coreProperties>
</file>